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6D0B4-06AD-47ED-839F-153EE3EEE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1282B-4AFD-4559-A5DD-D62724A1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AB7FD-5589-453A-9F3A-28B14B2C1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E4252-35C5-4364-8081-D330412B0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791E-A082-4A60-A0FC-4990999D7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B162-F90F-4875-815A-4CE25271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50FD-5425-4DC3-AF3E-16C740D8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B757-C6F3-481B-AB99-C1C03F2F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2086-332F-42D2-BFBF-FDDC5661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5814-0ADF-4E97-A3D2-2D0A3228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D05E-B138-4B75-A0FC-AA2CEACD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8FE79-645C-4E32-9168-B8F906C31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8B01-CB54-44C2-9058-71D8D1FE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C97F-DB58-428B-913C-665B2050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E684-4DFB-4988-AB9D-604C93C06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73457-1070-4B90-BB4E-6E8290670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FCB2-09ED-4E37-8F35-CA0940EE1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FB1E2-2FA6-4426-A86D-0F7A47574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4F0E3-4B13-4CC9-8D6C-6BCAC5BB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511FB-809A-4382-AD52-51DEB36E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931AA-FEC6-4460-818A-11BB8F8F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D543A-DBE9-4A0C-9831-9A37ACDE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22F4D-586C-4F6E-9605-AF7B5B1D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8FAC2-F05E-4FA0-88A4-D4226ABC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7B8D-4715-465C-B9F5-CDCE533F38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CCD0-7207-45BE-A3A1-DB52E5D0469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CA53-B0AD-4C1E-B6E1-A6B80B2D2866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CF9E-AF8E-4BA0-91AA-CD70BCB349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6373-7649-4555-A55E-367F0794BE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CF30-4C99-421A-839F-1132F26BAB9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 u="sng">
                <a:solidFill>
                  <a:srgbClr val="000029"/>
                </a:solidFill>
                <a:uFillTx/>
                <a:latin typeface="Times New Roman"/>
                <a:ea typeface="Times New Roman"/>
              </a:rPr>
              <a:t>BÀI 3</a:t>
            </a:r>
            <a:br>
              <a:rPr sz="4000"/>
            </a:br>
            <a:br>
              <a:rPr sz="4000"/>
            </a:br>
            <a:r>
              <a:rPr b="1" lang="en-US" sz="58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 SOẠN THẢO TRÌNH BÀY TỜ TRÌNH</a:t>
            </a:r>
            <a:br>
              <a:rPr sz="5800"/>
            </a:br>
            <a:br>
              <a:rPr sz="4000"/>
            </a:br>
            <a:r>
              <a:rPr b="1" lang="en-US" sz="4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Ố TIẾT GIẢNG: 1</a:t>
            </a:r>
            <a:br>
              <a:rPr sz="4000"/>
            </a:br>
            <a:r>
              <a:rPr b="1" lang="en-US" sz="4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Ự HỌC: 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ame 4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3CA6-2A29-45F6-81F8-C675361AD5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1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376F-9F92-4B22-9630-C18086A01C69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09120" y="1143000"/>
            <a:ext cx="8077320" cy="51055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hái niệm Tờ trì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Yêu cầu của Tờ trì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ấu trúc của Tờ trì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Mẫu Tờ trì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ài tập: Soạn Tờ trì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4" name="Horizontal Scroll 6"/>
          <p:cNvSpPr/>
          <p:nvPr/>
        </p:nvSpPr>
        <p:spPr>
          <a:xfrm>
            <a:off x="457200" y="109440"/>
            <a:ext cx="830592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ỘI DUNG BÀI GIẢ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8DA6-8D06-4910-8479-2407887C15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6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5442-81CE-46EC-8A7B-2601330673EB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8077320" cy="5181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Là loại văn bản hành chí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Dùng cho CQ, TC cấp dướ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ội dung: Đề xuất, xin phê duyệt vấn đề thuộc thẩm quyền quyết định của CQ, TC cấp trê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9" name="Horizontal Scroll 5"/>
          <p:cNvSpPr/>
          <p:nvPr/>
        </p:nvSpPr>
        <p:spPr>
          <a:xfrm>
            <a:off x="457200" y="109440"/>
            <a:ext cx="830592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KHÁI NIỆM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C43C-F04C-4459-AEC4-CA9AEAE7E2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1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03F2-B8B0-4EBC-AE42-627564FD45C6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8077320" cy="5181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êu tính cấp thiết của vấn đề xin phê duyệt, đề xuấ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ấn đề xin phê duyệt, đề xuất phải được diễn giải bằng phương á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ác giải pháp thực hiện phải mang tính khả th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4" name="Horizontal Scroll 5"/>
          <p:cNvSpPr/>
          <p:nvPr/>
        </p:nvSpPr>
        <p:spPr>
          <a:xfrm>
            <a:off x="457200" y="109440"/>
            <a:ext cx="830592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YÊU CẦU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med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F218-7E5A-4505-B95C-8B9D0A4036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6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A0E0-6579-47CC-92CA-3809247F9E85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1752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hận định tình hình thực tế (thuận lợi, khó khăn) từ đó chỉ ra tính cấp thiết của vấn đề xin phê duyệt, đề xuấ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9" name="Horizontal Scroll 5"/>
          <p:cNvSpPr/>
          <p:nvPr/>
        </p:nvSpPr>
        <p:spPr>
          <a:xfrm>
            <a:off x="457200" y="0"/>
            <a:ext cx="822960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CẤU TRÚC CỦA TỜ TRÌN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0" name="Horizontal Scroll 6"/>
          <p:cNvSpPr/>
          <p:nvPr/>
        </p:nvSpPr>
        <p:spPr>
          <a:xfrm>
            <a:off x="533520" y="914400"/>
            <a:ext cx="403848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ần mở đầu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609480" y="4191120"/>
            <a:ext cx="8001000" cy="685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ội dung đề xuất, phương án thực hiệ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2" name="Horizontal Scroll 8"/>
          <p:cNvSpPr/>
          <p:nvPr/>
        </p:nvSpPr>
        <p:spPr>
          <a:xfrm>
            <a:off x="533520" y="3429000"/>
            <a:ext cx="403848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ần nội du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609480" y="5638680"/>
            <a:ext cx="8001000" cy="685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Ý nghĩa, tác dụng của đề xuấ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4" name="Horizontal Scroll 10"/>
          <p:cNvSpPr/>
          <p:nvPr/>
        </p:nvSpPr>
        <p:spPr>
          <a:xfrm>
            <a:off x="533520" y="4876920"/>
            <a:ext cx="403848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ần kết thúc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FF98-C127-44E9-9FEC-B8E70F80C1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6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E135-91D9-4B70-8E39-8C89D368848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0" y="0"/>
            <a:ext cx="36576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ÔNG TY TNHH HÒA BÌNH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ố:        /TTr-…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3657600" y="0"/>
            <a:ext cx="54864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ỘNG HÒA XÃ HỘI CHỦ NGHĨA VIỆT NAM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ộc lập – Tự do – Hạnh phúc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ịa danh, ngày …… tháng …… năm …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228600" y="5867280"/>
            <a:ext cx="37339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ơi nhận: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80000"/>
              </a:lnSpc>
              <a:buClr>
                <a:srgbClr val="00002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………………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. ;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80000"/>
              </a:lnSpc>
              <a:buClr>
                <a:srgbClr val="00002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Lưu VT, PHC (3)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4114800" y="5867280"/>
            <a:ext cx="50292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ỀN HẠN, CHỨC VỤ NGƯỜI KÝ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0" y="1752480"/>
            <a:ext cx="9144000" cy="39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      </a:t>
            </a:r>
            <a:r>
              <a:rPr b="1" lang="en-US" sz="24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Ờ TRÌNH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ề việc . . . . . . . . . . . . . . 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ính gởi: …………………………………………………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ần mở đầu: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Nhận định tình hình, phân tích thuận lợi, khó khăn làm cơ sở cho việc đề xuất vấn đề.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ần nội dung: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Nêu nội dung của đề xuất, các phương án thực hiện, dự kiến vấn đề có thể phát sinh khi thực hiện.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- Nêu khó khăn, thuận lợi (chủ quan, khách quan) khi triển khai thực hiện và dự kiến biện pháp khắc phục.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ần kết thúc:</a:t>
            </a: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êu ý nghĩa, tác dụng của đề xuất; đề nghị cấp trên xem xét chấp thuận để sớm triển khai thực hiện.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2" name="Line 5"/>
          <p:cNvSpPr/>
          <p:nvPr/>
        </p:nvSpPr>
        <p:spPr>
          <a:xfrm>
            <a:off x="3886200" y="2590920"/>
            <a:ext cx="1676520" cy="0"/>
          </a:xfrm>
          <a:prstGeom prst="line">
            <a:avLst/>
          </a:prstGeom>
          <a:ln w="2844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3" name="Line 5"/>
          <p:cNvSpPr/>
          <p:nvPr/>
        </p:nvSpPr>
        <p:spPr>
          <a:xfrm>
            <a:off x="914400" y="609480"/>
            <a:ext cx="1676520" cy="0"/>
          </a:xfrm>
          <a:prstGeom prst="line">
            <a:avLst/>
          </a:prstGeom>
          <a:ln w="2844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4" name="Line 6"/>
          <p:cNvSpPr/>
          <p:nvPr/>
        </p:nvSpPr>
        <p:spPr>
          <a:xfrm>
            <a:off x="4724280" y="914400"/>
            <a:ext cx="3276720" cy="0"/>
          </a:xfrm>
          <a:prstGeom prst="line">
            <a:avLst/>
          </a:prstGeom>
          <a:ln w="2844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1E7C-5206-46A3-B606-CC1799821E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6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6EB7-F3E5-49AB-AEB9-9E0FC1C7A20D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47" name="Picture 2" descr="http://trustbank.com.vn/img/Upload/26_10_2011_3_54_56_CH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http://3.bp.blogspot.com/-m8FhZRqtfPY/TvLwL3RoZOI/AAAAAAAABns/pX4BAgs-ALM/s640/004.JP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Multiply 5"/>
          <p:cNvSpPr/>
          <p:nvPr/>
        </p:nvSpPr>
        <p:spPr>
          <a:xfrm>
            <a:off x="5029200" y="4800600"/>
            <a:ext cx="1828800" cy="198108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3360-9C98-48A7-89E1-2C73BF42D1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1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AA0A-63C0-4179-AB9E-E67354EBCB7D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3" name="Horizontal Scroll 5"/>
          <p:cNvSpPr/>
          <p:nvPr/>
        </p:nvSpPr>
        <p:spPr>
          <a:xfrm>
            <a:off x="380880" y="76320"/>
            <a:ext cx="838224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ÂU HỎI ÔN TẬ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457200" y="1066680"/>
            <a:ext cx="8229600" cy="5257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1)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Nêu các yêu cầu của tờ trình?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2)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Cấu trúc của tờ trình và những nội dung chính của tờ trình?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6120"/>
            <a:ext cx="9144000" cy="7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C1A5-B15F-4327-8084-4C038AC767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0199-DBA4-4EA1-88A5-F59AF18BE79E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533520" y="1143000"/>
            <a:ext cx="8153280" cy="5181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Là Giám đốc Chi nhánh Công ty CP Hoa Mai tại Bình Dương, em hãy soạn Tờ trình gởi Tổng Giám đốc Công ty xin tuyển dụng 2 nhân viên cho Phòng Kinh doanh, mua một ô-tô tải 2,5 tấn phục vụ cho công việc kinh doanh của Chi nhán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(Biết: Doanh thu 2013: 10 tỷ; lợi nhuận: 800 triệu; chỉ tiêu doanh thu 2014: 12 tỷ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9" name="Horizontal Scroll 5"/>
          <p:cNvSpPr/>
          <p:nvPr/>
        </p:nvSpPr>
        <p:spPr>
          <a:xfrm>
            <a:off x="380880" y="152280"/>
            <a:ext cx="8382240" cy="9907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ÀI TẬP TRÊN LỚP (45p) 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03:20:02Z</dcterms:created>
  <dc:creator>Bài giảng QTVP_Thầy Nam Hà</dc:creator>
  <dc:description/>
  <dc:language>en-US</dc:language>
  <cp:lastModifiedBy>ntc</cp:lastModifiedBy>
  <dcterms:modified xsi:type="dcterms:W3CDTF">2014-02-17T03:32:27Z</dcterms:modified>
  <cp:revision>318</cp:revision>
  <dc:subject/>
  <dc:title>Chương 9.3</dc:title>
</cp:coreProperties>
</file>